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E6F3-2B05-4F45-8BCF-2A68F7D3D5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A 28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E COSA FA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L DIVIETO LEGALE E’ UN ATTO INDISPENSABILE MA INSUF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’ NECESSARIO UN APPROCCIO MULTIDISCIPLINARE, MEDICO, ANTROPOLOGICO E SOCI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’ATTIVAZIONE DI UNA GRANDE CAMPAGNA DI SENSIBILIZZAZIONE CULTURALE SULLA VIOL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RO LE DONNE DA PARTE DI TUTTI GLI ORGANISMI E I SOGGETTI ISTITUZIONALI INTERESS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REALIZZAZIONE DI UN OSSERVATORIO PERMANENTE DA PARTE DI TUTTE LE ISTITUZIONI PREPO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DIFFUSIONE E GENERALIZZAZIONE DELLE INIZIATIVE DI FORMAZIONE SUL TEMA DELLE MUTILAZIONI GENITALI FEMMINI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DIA 11-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Nella tradizione le mutilazioni genitali femminili non sono considerate un atto di violenza sul minore, bensì un segno di attenzione e di cura della famiglia verso la bambina: la donna non escissa è stata una bambina di cui nessuno si è preso cura. Le ragioni che portano una madre a mutilare la figlia sono fortemente radicate nella tradizione culturale: Come abbiamo detto ci sono ragioni di tipo religioso, anche se non vi è una precisa indicazione da parte del Cor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Ma le mutilazioni vengono praticate anche in popolazioni animiste, protestanti, cristiane, ebree nelle diverse nazioni interessate da questo fenomeno.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Ci sono prevalenti ragioni di tipo “psico sessuale”: Il clitoride è ritenuto un organo aggressivo, pericoloso per l’organo maschile e per il bambino durante il parto (Mali, Kenya, Sudan, Nigeria). In altri Paesi si pensa che al momento della nascita entrambi i sessi convivano nella stessa persona: il clitoride rappresenta l’elemento maschile nella donna, e il prepuzio l’elemento femminile nel maschio; entrambi quindi vanno recisi per definire meglio il sesso di una persona.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Infine si pensa che sia necessario attenuare il desiderio sessuale delle donne, proteggersi dalla ipersessualità femminile e favorire la castità. Esistono poi ragioni sociali: le mutilazioni genitali femminili hanno lo scopo di favorire la verginità fino al matrimonio in una società dove le relazioni al di fuori di esso sono punite sever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Una donna non infibulata, anche se vergine, può difficilmente trovare marito.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Nelle società in cui è praticata la poligamia le mutilazioni sono considerate utili affinchè le richieste sessuali delle donne non siano ecces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L’infibulazione è poi una specie di protezione per la ragazza e può permettere possibilità di recupero in caso abbia avuto un rapporto non lecito poiché può essere ripristinata, come avviene d’altronde dopo il parto.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In conclusione nelle società povere dove il matrimonio è una protezione sociale ed economica per le donne, i genitori pensano con le mutilazioni genitali femminili di garantire un futuro alla figlia, integrandola nelle cultura locale, proteggendo la sua verginità e quindi dandole più possibilità di sposar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A9C-EDFA-4337-A042-5BEDFE06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13B-1B99-43F9-8518-0DB138D5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B7A-0615-4B18-8CF1-8CC26CA6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719-FC30-419E-80AA-B6F78863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999-CB02-4146-94AB-A9CFE99C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CB9-3A7E-4051-91D2-C1252B98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89D-D743-4F59-8ECB-8DA41FAE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709-21AC-487E-8AA9-B0AB1E28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245-24E1-44AE-A137-BACEFC30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381-B70B-4322-8EC2-B21A3938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315-E3F1-4358-A97A-67242FAD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633-6D4D-4DD2-9811-E4A5232F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DA8D-CEF3-459F-818C-CDC79ECB3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www.turricchiaealbertazzi.it/img/legislazione.jpg&amp;imgrefurl=http://www.turricchiaealbertazzi.it/amministrazioni_condominiali.php&amp;usg=__uh4OzuyqaIiGhcYDwel4VqUUxlo=&amp;h=120&amp;w=120&amp;sz=17&amp;hl=it&amp;start=1&amp;zoom=1&amp;tbnid=HNhY1Rw91-uO2M:&amp;tbnh=88&amp;tbnw=88&amp;ei=-DNuToOUB4nGtAbS8oD-BA&amp;prev=/search%3Fq%3Dlegislazione%26um%3D1%26hl%3Dit%26sa%3DN%26tbm%3Disch&amp;um=1&amp;itb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www.nannimagazine.it/v1.0.6/_resources/_documents/news/images/1077650099.jpg&amp;imgrefurl=http://www.nannimagazine.it/articolo/2094/Mutilazioni-genitali-femminili-in-Abruzzo-oltre-900-donne-a-rischio&amp;usg=__8oT9zlsFz7njg-iJgPBfYxmFejM=&amp;h=249&amp;w=249&amp;sz=20&amp;hl=it&amp;start=28&amp;zoom=1&amp;tbnid=HnVtXEzYW1ZlpM:&amp;tbnh=111&amp;tbnw=111&amp;ei=BCxuTrzgMc7Msgbdn_H_Cg&amp;prev=/search%3Fq%3Dmutilazioni%2Bgenitali%2Bfemminili%2Bimmagini%26start%3D21%26um%3D1%26hl%3Dit%26sa%3DN%26tbm%3Disch&amp;um=1&amp;itbs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www.ilquaderno.it/immagini/max_8527d869ffd6845a3ceea8c8da6518ea.jpg&amp;imgrefurl=http://www.ilquaderno.it/diritto-salute-pubblica-campania-comitato-presenta-iniziative-53376.html&amp;usg=__pwmZ1pRAx-gJJ26SypOmL6Kzz10=&amp;h=240&amp;w=320&amp;sz=19&amp;hl=it&amp;start=95&amp;zoom=1&amp;tbnid=RT1RSR8olAGeXM:&amp;tbnh=89&amp;tbnw=118&amp;ei=vi5uTr7nFYj0sgasuryzBw&amp;prev=/search%3Fq%3Ddiritto%2Balla%2Bsalute%26start%3D84%26um%3D1%26hl%3Dit%26sa%3DN%26tbm%3Disch&amp;um=1&amp;itbs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29.media.tumblr.com/tumblr_lfxouxhH3u1qa4vf1o1_400.gif&amp;imgrefurl=http://papahitler.tumblr.com/post/3046587602/i-know-i-already-posted-this-but-i-love-medieval&amp;usg=__5KHCC-AJjLXCyBylbeL1O2-ttJQ=&amp;h=400&amp;w=400&amp;sz=171&amp;hl=it&amp;start=48&amp;zoom=1&amp;tbnid=-F0CGFIf8SNYeM:&amp;tbnh=124&amp;tbnw=124&amp;ei=RC9uTrmIG4fMswbT8-zbBA&amp;prev=/search%3Fq%3Dtorture%26start%3D42%26um%3D1%26hl%3Dit%26sa%3DN%26tbm%3Disch&amp;um=1&amp;itbs=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questure.poliziadistato.it/img/24893_2.jpg&amp;imgrefurl=http://questure.poliziadistato.it/Forl%25C3%25ACCesena/articolo-6-188-24893-1.htm&amp;usg=__qScm_WYF-UZNXlpOOaOcENBi_Mo=&amp;h=110&amp;w=140&amp;sz=5&amp;hl=it&amp;start=5&amp;zoom=1&amp;tbnid=Ay3H62ZIxQlmhM:&amp;tbnh=73&amp;tbnw=93&amp;ei=oC9uTv7MJs_Bswa7sqz7Cg&amp;prev=/search%3Fq%3Dintegrit%25C3%25A0%2Bfisica%2Be%2Bsessuale%26um%3D1%26hl%3Dit%26sa%3DN%26tbm%3Disch&amp;um=1&amp;itbs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seinteriore.files.wordpress.com/2010/02/neonato.jpg&amp;imgrefurl=http://www.nostrofiglio.it/forum/mamma-che-blog-62/la-vita-%25C3%25A8-bella-6550/index3.html&amp;usg=__tsD_hyjHSvYWpU77cnnEBgEDizw=&amp;h=325&amp;w=370&amp;sz=13&amp;hl=it&amp;start=11&amp;zoom=1&amp;tbnid=tFvgtKF72wMvlM:&amp;tbnh=107&amp;tbnw=122&amp;ei=ljBuTpHrE8frsgbPoJnZBA&amp;prev=/search%3Fq%3Dfigli%26um%3D1%26hl%3Dit%26sa%3DN%26tbm%3Disch&amp;um=1&amp;itbs=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www.uglscuolavibo.it/Decreto%2520legge.gif&amp;imgrefurl=http://www.uglscuolavibo.it/&amp;usg=__mx8wtSZm0kn0Wu2sW_N35l-ffDs=&amp;h=290&amp;w=370&amp;sz=12&amp;hl=it&amp;start=11&amp;zoom=1&amp;tbnid=aZdgobtFIXuSCM:&amp;tbnh=96&amp;tbnw=122&amp;ei=LjNuTsjAKY_vsgaf64XaCw&amp;prev=/search%3Fq%3Dlegge%26um%3D1%26hl%3Dit%26sa%3DN%26tbm%3Disch&amp;um=1&amp;itbs=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www.ital-assistance.eu/images/figure-sanitarie_infermieri.jpg&amp;imgrefurl=http://www.ital-assistance.eu/staff_inf.htm&amp;usg=__nmivqAWVNIwm5mUGRrASz8uZoOg=&amp;h=177&amp;w=199&amp;sz=27&amp;hl=it&amp;start=2&amp;zoom=1&amp;tbnid=SRurC3i91glNpM:&amp;tbnh=93&amp;tbnw=104&amp;ei=1TBuTq9ehfSyBsLPycUE&amp;prev=/search%3Fq%3Dfigure%2Bsanitarie%26um%3D1%26hl%3Dit%26sa%3DN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www.ital-assistance.eu/images/figure-sanitarie_infermieri.jpg&amp;imgrefurl=http://www.ital-assistance.eu/staff_inf.htm&amp;usg=__nmivqAWVNIwm5mUGRrASz8uZoOg=&amp;h=177&amp;w=199&amp;sz=27&amp;hl=it&amp;start=2&amp;zoom=1&amp;tbnid=SRurC3i91glNpM:&amp;tbnh=93&amp;tbnw=104&amp;ei=1TBuTq9ehfSyBsLPycUE&amp;prev=/search%3Fq%3Dfigure%2Bsanitarie%26um%3D1%26hl%3Dit%26sa%3DN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www.ital-assistance.eu/images/figure-sanitarie_infermieri.jpg&amp;imgrefurl=http://www.ital-assistance.eu/staff_inf.htm&amp;usg=__nmivqAWVNIwm5mUGRrASz8uZoOg=&amp;h=177&amp;w=199&amp;sz=27&amp;hl=it&amp;start=2&amp;zoom=1&amp;tbnid=SRurC3i91glNpM:&amp;tbnh=93&amp;tbnw=104&amp;ei=1TBuTq9ehfSyBsLPycUE&amp;prev=/search%3Fq%3Dfigure%2Bsanitarie%26um%3D1%26hl%3Dit%26sa%3DN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3.bp.blogspot.com/_T52heSN7gCw/TD4NPYIJAhI/AAAAAAAAADg/Hir--p8Rt6c/s1600/leggi202.jpg&amp;imgrefurl=http://menevadoinbrasile.blogspot.com/2010/07/con-lapprovazione-da-parte-del.html&amp;usg=__ap5-TKZ3eH3hk75quy1PSBdT0cY=&amp;h=300&amp;w=300&amp;sz=21&amp;hl=it&amp;start=6&amp;zoom=1&amp;tbnid=XoNFdSOXMkMLIM:&amp;tbnh=116&amp;tbnw=116&amp;ei=jzJuTtP8Fsf1sgbr7-y1DQ&amp;prev=/search%3Fq%3Dlegge%26um%3D1%26hl%3Dit%26sa%3DN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www.studitardoantichi.org/einfo2/content/Libri-2.jpg&amp;imgrefurl=http://www.studitardoantichi.org/home/art1/0/1044/1048/FORME-DELLA-CULTURA-NELLA-TARDA-ANTICHIT---I.html&amp;usg=__-WdD9AxtmTx-xc_dG2CVmO7q9-U=&amp;h=444&amp;w=640&amp;sz=38&amp;hl=it&amp;start=18&amp;zoom=1&amp;tbnid=8Rg1dt6CJwg85M:&amp;tbnh=95&amp;tbnw=137&amp;ei=CRtzTte2GofcsgbvvrWyCw&amp;prev=/search%3Fq%3Dantichit%25C3%25A0%26um%3D1%26hl%3Dit%26sa%3DN%26tbm%3Disch&amp;um=1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www.cooperazioneallosviluppo.esteri.it/pdgcs/foto/medium/donna_velo.jpg&amp;imgrefurl=http://www.cooperazioneallosviluppo.esteri.it/pdgcs/italiano/eventi/viewevento.asp%3Fidx%3D2634&amp;usg=__PZ5LYOnYqKSAFePskRLX8I7hnQ0=&amp;h=140&amp;w=200&amp;sz=22&amp;hl=it&amp;start=128&amp;zoom=1&amp;tbnid=hy8ePSU9XY7goM:&amp;tbnh=73&amp;tbnw=104&amp;ei=uC1uTsbYLozVsgb6lp3oBA&amp;prev=/search%3Fq%3Dmutilazioni%2Bgenitali%2Bfemminili%2Bimmagini%26start%3D126%26um%3D1%26hl%3Dit%26sa%3DN%26tbm%3Disch&amp;um=1&amp;itbs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it/imgres?imgurl=http://www.ilculturista.it/cultura/wp-content/uploads/bellezza_interiore.jpg&amp;imgrefurl=http://www.ilculturista.it/cultura/%3Fp%3D8296&amp;usg=__NJLSI6pioE_uqXFNgo-PTp_VezI=&amp;h=300&amp;w=300&amp;sz=9&amp;hl=it&amp;start=8&amp;zoom=1&amp;tbnid=IxMxxIrNbnv3YM:&amp;tbnh=116&amp;tbnw=116&amp;ei=4CVzTvjnN8-QswbSpczRCw&amp;prev=/search%3Fq%3Dbellezza%26um%3D1%26hl%3Dit%26sa%3DN%26tbm%3Disch&amp;um=1&amp;itbs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9051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logo%20DPO%20alta%20definizione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2895480" cy="803160"/>
          </a:xfrm>
          <a:prstGeom prst="rect">
            <a:avLst/>
          </a:prstGeom>
          <a:ln w="0">
            <a:noFill/>
          </a:ln>
        </p:spPr>
      </p:pic>
      <p:pic>
        <p:nvPicPr>
          <p:cNvPr id="50" name="S-170x111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1935000" cy="116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19320" y="220968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Assessor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alle Pari Opportun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505320"/>
            <a:ext cx="6172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OGETTO “MGF? NO GRAZI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Progetto realizzato con il contributo della Presidenza del Consiglio dei Ministri - Dipartimento per le Pari Opportun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 ragioni delle mutilazioni genitali femmin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pirituali e religi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zione indispensabile per rendere le giovani donne pure spiritual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lcune realtà musulmane si tende a credere che il Corano prescriva tali pratiche, ma ciò non è assolutamente vero. Non risultano tali prescrizioni da alcun testo sac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2448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 ragioni delle mutilazioni genitali femmin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sicologiche e sess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evenire una incontrollata attività sessua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lle giovani donne (dovuta ad una crescita eccessiva del clitoride che aumenterebbe il desiderio sessua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eservare la verginit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lle giovani donne (vergini al matrimonio) per tutelare il marito e l’intera comunità da una vita sessualmente dissolu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ggior piacere per l’uom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l rapporto sessuale           prevenire infedeltà e divorz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men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ertilità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le secrezioni genitali di donne non infibulate sono in grado di uccidere gli spermatozoi in vag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88000" y="494172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 ragioni del contrasto alle mutilazioni genitali femmin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mi internazionali (OMS, Unicef), Stati occidentali, africani e medio oriental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GF rappresentano una grave violazione dell’integrità fisica, psichica e morale delle donne, una grave violazione di uno dei diritti umani fondamentali che è il diritto alla sal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GF comportano serie conseguenze sulla salute fisica e mentale delle bambine e delle donne ( patologie legate alle complicanze, alle condizioni igieniche in cui sono eseguite, alla non abilità delle persone che le esegu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2923920"/>
            <a:ext cx="820728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Italia la tutela della salute è uno dei principi fondanti della Costituzion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’art. 32  “ La Repubblica tutela la salute come fondamentale diritto dell’individuo e interesse della collettività, e garantisce cure gratuite agli indigenti. Nessuno può essere obbligato ad un determinato trattamento sanitario se non per disposizione di legge. La legge non può in nessun caso violare i limiti imposti dal rispetto della persona uman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8200" y="352440"/>
            <a:ext cx="72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 legislazione in It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125360"/>
            <a:ext cx="3097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. 5 del Codice Civile definisce gli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tti di disposizione del proprio corp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tati quando cagionino una diminuzione permanente dell’integrità fisica del corpo u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ivieto ai medici di effettuare pratiche di MG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dice di Deontologia Medica art. 50 capitolo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rture e trattamenti disuman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: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l medico non deve praticare per finalità diverse da quelle diagnostiche e terapeutiche, alcuna forma di mutilazione o menomazione né trattamenti crudeli, disumani o degradanti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516720" y="5084640"/>
            <a:ext cx="2627280" cy="177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26028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 legislazione in Ital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gge n. 7 del 9 gennaio 2006 “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sposizioni concernenti la prevenzione e il divieto delle pratiche di mutilazion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enitale femmin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etti di assistenza e riabilitazione                det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agne di informazione                                radiazione dall’alb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si di formazione del personale                     sospensione eserci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izzazione di materiale inform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zione di un numero ver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 legislazione in It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2421000"/>
            <a:ext cx="388764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ISURE PREVEN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9280" y="2421000"/>
            <a:ext cx="403236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ISURE PUN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 legislazione in Ital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’art. 583 b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figura  i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 pratica di MGF prevedendo l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tenzio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a 4 a 12 anni per chi pratica le mutilazioni, in assenza di esigenze terapeutiche e con lo scopo di modificare le funzioni sessuali della vittima, aumento della pena di un terzo quando la vittima è una persona minore, e possibilità di punire l’autore anche quando l’intervento è eseguito all’estero su cittadina italiana o straniera residente in It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a aggravante è prevista poi per il personale medico, con la radiazione dall’albo e la sospensione dell’esercizio della profess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È attivo dal 2009 il Numero Verde per la prevenzione e il contrasto delle pratiche di mutilazione genitale femminile. Il servizio, gestito dalla Direzione Centrale Anticrimine del Dipartimento della pubblica sicurezza del Ministero dell'Interno, accoglie segnalazioni e notizie di reato realizzate sul territorio italiano e fornisce informazioni sulle strutture sanitarie e sulle organizzazioni di volontari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292640"/>
            <a:ext cx="7991280" cy="20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064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 legislazione negli altri Paesi occidental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Paesi occidentali che hanno ospitato sul proprio territorio comunità provenienti da Paesi a tradizione escissoria hanno un apparato di norme che contrastano la pratica di mutilazione genitale femminile sul proprio territorio; alcuni hanno legiferato specificatamente in merito, altri ricorrono a norme già in vigore, volte alla tutela dell’integrità fisica della persone, delle donne e dei min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 legislazione nei Paesi afric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3500280"/>
            <a:ext cx="814716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sun governo di nessun Paese africano dichiara apertamente il sostegno alle MG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ttavia le leggi nazionali contrastanti le pratiche tradizionali trovano grandi difficoltà nella loro attu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4292640"/>
            <a:ext cx="7993080" cy="2016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268280"/>
            <a:ext cx="381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075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venzioni internazionali per la protezione delle donne dalle mutilazioni genitali femminil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MGF violano le principali convenzioni internazionali relative ai diritti umani,delle donne e del fanciu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convenzioni, sottoscritte dai Paesi occidentali e africani tendono a garantire alle donne e alle bamb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l diritto alla salu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l diritto a non essere soggetto a pratiche crudeli e degrad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l diritto all’integrità fisica e sessu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l diritto alla riprodu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UTILAZIONI GENITALI FEMMIN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78598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igini storico-cul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gioni delle M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gioni del contrasto alle M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petti legisl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nzioni internazionali per la protezione delle donne dalle M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ee guida ministe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ccomandazioni per le figure professionali sanit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a fare: principi di inter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61135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tt.ssa Garofalo G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ritto alla sa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MGF rappresentano una palese violazione a numerose convenzioni ONU ed altri Organismi internazion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Dichiarazione Universale dei diritti dell’uom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48): proclama il diritto di ogni essere umano di vivere in condizioni tali da godere buona salute e assistenza sanitaria e all’art. 3 stabilisce il diritto alla vita, alla libertà e alla sicurezza della perso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nvenzione dei diritti del fanciull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89): offre strumenti di prevenzione delle MGF e all’art. 24 stabilisce che gli Stati devono prendere tutte le misure efficaci ed appropriate per abolire le pratiche tradizionali che possono risultare pregiudizievoli alla salute del fanciul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nvenzione per l’eliminazione di ogni forma di discriminazione contro le donn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pprovata dall’Unione Europea nel 1981: stabilisce la parità di accesso ai servizi sanitari, alla pianificazione famili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rta africana sui diritti e il benessere del fanciull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90): propone molti dei diritti della Convenzione sui diritti del fanciullo in nome dei quali si può promuovere il contrasto delle MG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rta africana dei diritti umani e dei popol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81): afferma che gli esseri umani sono inviolabi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0"/>
            <a:ext cx="2411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ritto a non essere soggetto a trattamenti crudeli e degrad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 MGF rappresentano una forma di trattamento crudele e degradante nei confronti delle donne e delle bamb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Dichiarazione Universale dei diritti dell’uomo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948): l’art. 5 recita “nessun individuo potrà essere sottoposto a tortura o a trattamenti o a punizioni crudeli, inumani o degradanti”, e l’art. 22 recita “ ognuno, come membro della società,ha diritti sociali e culturali indispensabili per la sua dignità e il libero sviluppo della sua personalità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Convenzione ONU contro la tortura e altri trattamenti e punizioni disumani e degradanti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989): definisce la tortura come ogni azione che intenzionalmente causa ad una persona pene gravi o sofferenze, fisiche e mentali, per motivi di discriminazione, in presenza o per conto di un funzionario pubblic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Convenzione ONU sui diritti del fanciullo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989): l’art. 37 afferma che nessun bambino deve essere sottoposto a tortura o a trattamenti inumani e degradan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Carta africana sui diritti e il benessere del fanciullo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990): l’art. 5 dichiara che ogni individuo ha il diritto al rispetto della dignità insita in ogni essere umano e al riconoscimento dello status legale e proibisce ogni forma di trattamento che viola tale dignità. Raccomanda inoltre agli Stati di eliminare pratiche sociali e culturali pericolose che influenzano il benessere, la dignità, la normale crescita e il normale sviluppo del bamb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0"/>
            <a:ext cx="1979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ritto all’integrità fisica e sess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MGF violano l’integrità fisica e sessuale delle donne e delle bambine, come sostenuto da documenti internazion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Dichiarazione universale dei diritti dell’uom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48): l’art. 3 sostiene il diritto di ognuno alla vita, alla libertà e alla sicurezza della perso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Convenzione per l’eliminazione di ogni forma di discriminazione delle donn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979): condanna ogni discriminazione sulla base del sesso, che ha come obiettivo quello di porre la donna in una condizione di inferiorità rispetto all’uom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Protocollo aggiuntivo alla Carta Africana sui diritti dell’uomo e dei popoli sui diritti delle donne in Afric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003), conosciuto come il Protocollo di Maputo: nel promuovere la parità dei diritti tra uomo e donna, all’art. 5 impegna gli Stati a condannare e a proibire ogni pratica pregiudizievole che si ripercuote negativamente sui diritti umani delle donne, contrari agli standard internazionalmente riconosciuti; all’art. 14 afferma il diritto alla salute sessuale e riprodut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ritto alla riprod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Raccomandazione sull’uguaglianza dell’uomo e della donna nel matrimonio e nella famiglia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994), ad integrazione della Convenzione ONU per l’eliminazione di ogni forma di discriminazione delle donne, ha riconosciuto il diritto alla donna di programmare il numero dei fig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Il Protocollo alla Carta africana sui diritti dell’uomo e dei popoli sui diritti delle donne in Africa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otocollo di Maputo, 2003), impegna gli Stati ad assicurare il diritto delle donne alle salute, compresa la salute sessuale e riprodut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0"/>
            <a:ext cx="219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NEE GUID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m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3141360"/>
            <a:ext cx="84358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iritto alla salute e all’integrità della propria persona, di ogni donna, al di là di ogni tradizione e convenzion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mazione del personale sanitario ( pediatra, ostetrico-ginecologo, neonatologo, chirurgo etc.) e socio-sanitario (psicologi,mediatori culturali,assistenti sociali e insegnanti) che opera con le comunità di immigrati provenienti dai Paesi con tradizioni escisso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48428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78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ccomandazioni per le figure professionali sanita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497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edici del SS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noscenza di base di che cosa sono le MGF, aspetti sanitari, antropologici e sociologici ad esse connes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edici di base e  pediatri di libera scelt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aper cogliere i risvolti sanitari delle MGF e individuare il rischio che eventualmente potrebbe correre una bambina che vive in comunità con tradizioni escisso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0"/>
            <a:ext cx="2484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ccomandazioni per le figure professionali sanita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82184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ormazione personale specializzato per affrontare le situazioni a rischio, trattare patologie particolarmente complesse come  interventi chirurgici di deinfibu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isposizione di protocolli operativi per facilitare la cura di donne sottoposte a MGF, per riuscire ad incrementare la probabilità di ricorso fiduciario al SSN, per instaurare un rapporto di fiducia con uno stesso opera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0"/>
            <a:ext cx="19796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ccomandazioni per le figure professionali sanita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291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ccio di tipo multidisciplin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'approccio clinico e psicologico preferibilmente da parte di  operatori di sesso femmin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tuale collaborazione di interpreti e mediatrici cultur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5013360"/>
            <a:ext cx="1979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ccomandazioni per le figure professionali sanita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8569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'eventuale riscontro di una MGF avvenuta durante la permanenza in Italia comporta l'obbligo di denuncia alle Autorità competen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 Legge 9 gennaio 2006, n. 7, art.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773360"/>
            <a:ext cx="2952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320" y="3042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E COSA FARE?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430640"/>
            <a:ext cx="769644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CCIO MULTIDISCIPLINAR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EDICO, ANTROPOLOGICO, SOCI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MPAGNA DI SENSIBILIZZAZIONE CULTUR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SSERVATORIO PERMAN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ENZI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U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igini storico-culturali delle mutilazioni genitali femmin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ce nell’antico Egitto (“circoncisione faraonica”) e nell’antica Roma, (origine del termine infibulazione da fibula applicata a giovani schiave per impedire loro rapporti sessuali e gravidan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Erodoto: pratica conosciuta tra i Fenici, Ittiti, Etiopi ed Egizi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lla letteratura medica antica: descrizioni dettagliate della strumentazione e delle fasi dell’oper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2447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1019160"/>
            <a:ext cx="5943600" cy="4619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76360" y="602136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RAZIE A TUTTI PER L’ATT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ssuna evidenza scientifica di correlazione religione-diffusione pratica MGF: diffusione simile tra popolazione islamica e popolazione cristiana (rispettivamente 99,4 e 93,8% in Guinea, 91,9 e 75,5% in Mali, 77,9 e 66.0% in Burkina Fas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igine della diffusione: appartenenza etnica e definizione dell’identità di genere (rapporti tra i sessi e le generazion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24000" y="260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Origini storico-culturali delle mutilazioni genitali femmin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349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to di passaggio infanzia / età adulta : la bambina diventa “donna” passando attraverso la manipolazione fisica del corpo cioè l’asportazione della parte “maschile” dell’apparato genitale femminile (clitor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imenti corporei contenuti e misurati e andatura lenta flessuosa  tipicamente femmin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dizione da madre a figlia, da generazioni di donne ad altre generazioni come requisito indispensabile per l’ingresso nella societ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13000"/>
            <a:ext cx="3743280" cy="1728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26028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Origini storico-culturali delle mutilazioni genitali femmin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42926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320" y="33552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 ragioni delle mutilazioni genitali femmin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030560"/>
            <a:ext cx="8686800" cy="279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TRADIZIONI CULTURALI E CRED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PRESERVAZIONE DELLA VERGIN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 MAGGIOR PIACERE SESSUALE MAS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ACCETTAZIONE SOC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PECIALMENTE PER IL MATRIMON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03640" y="112536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320" y="3340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 ragioni delle mutilazioni genitali femmin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53800"/>
            <a:ext cx="8686800" cy="28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GIENE E PULI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ONORE FAMIGL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SENSO DI APPARTENENZA A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AUMENTO FERT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REPARAZIONE AL DOLORE DEL 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952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075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 ragioni delle mutilazioni genitali femminili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ocio-cultu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tuale per raggiungere la maturità e divenire a pieno titolo componente della comun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Forma di controllo della sessualità della donna che solo privata di una parte dei suoi organi genitali potrà mantenersi vergine e ca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ratica di “purificazione  della donna” : genitali esterni = idea di bruttezza e nocività sulla sua salute mentale e sulla vita di marito e  fig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o al matrimonio quindi alla terra e alla sopravviv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Forte pressione sociale dell’intera comunità (donne anziane) :           MGF è una fonte sicura di redd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4292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1471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 ragioni delle mutilazioni genitali femminili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gieniche ed este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ociazione genitali femminili esterni / idea di bruttezza e nocività: la crescita dei GE (in particolare del clitoride) può condizionando la vita della don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rimozione, più o meno radicale, delle parti esterne rende la donna più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l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a un punto di vista estetico e più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ul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a un punto di vista igien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73280" y="4221000"/>
            <a:ext cx="2195640" cy="1727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87480" y="6165720"/>
            <a:ext cx="506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lez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urezza spirit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5:12:27Z</dcterms:created>
  <dc:creator>A.O. Maggiore Della Carità - Novara</dc:creator>
  <dc:description/>
  <dc:language>en-US</dc:language>
  <cp:lastModifiedBy>Windows User</cp:lastModifiedBy>
  <dcterms:modified xsi:type="dcterms:W3CDTF">2013-01-31T10:51:03Z</dcterms:modified>
  <cp:revision>270</cp:revision>
  <dc:subject/>
  <dc:title>Le ragioni delle mutilazioni genitali femminili </dc:title>
</cp:coreProperties>
</file>