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FE7-520A-4C99-BFDC-7F858B93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C5D-76D5-47E8-8477-C083C56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75E-403B-4186-8AA9-3724D983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A42-F6EB-4F15-94A4-84BE6A33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EA8-BDAE-4065-AD12-2B073879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4F03-C20B-4147-96C5-FD20A774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66FC-E285-4BED-80D3-EB3764E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3CF2-70CE-40DF-B2F3-CAD87763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9196-36F8-4DDC-8652-8382CCE7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A84-F9BA-410E-8822-59A68E2C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4A3-43DD-4B86-92D9-60304A6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E49-BD4B-4835-95F9-9EBCB7D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4FB-413A-46EE-B5B8-810E1EA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A0B-F1E0-4F02-B88B-968084E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645-8825-4EED-AE01-263E5109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6535-5E29-47CF-83C6-D00FC9CF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A4E5-9850-4E22-AED2-B6756C36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835-2DEA-41E6-A387-E601CBE7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ADA-3A10-4CFC-9A6D-EDEED07A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97B-D069-4CCC-AC48-7EB4958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9AF-FDF8-4039-8911-5428D34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6D5-7A99-4B0F-80C4-E160C1CE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A5D-DA6D-45FF-A9CE-4D7F9166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520-3073-4051-A173-3BB5F09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riangolo isoscele 3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7978-81CC-432D-B5D0-203C927A173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A519-239F-4C36-891D-681D6E65B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logo%20DPO%20alta%20definizione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95480" cy="803160"/>
          </a:xfrm>
          <a:prstGeom prst="rect">
            <a:avLst/>
          </a:prstGeom>
          <a:ln w="0">
            <a:noFill/>
          </a:ln>
        </p:spPr>
      </p:pic>
      <p:pic>
        <p:nvPicPr>
          <p:cNvPr id="91" name="S-170x111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93500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2209680"/>
            <a:ext cx="22096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  <a:ea typeface="Times New Roman"/>
              </a:rPr>
              <a:t>Assessora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  <a:ea typeface="Times New Roman"/>
              </a:rPr>
              <a:t>alle Pari Opportunit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3505320"/>
            <a:ext cx="61722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ETTO “MGF? NO GRAZI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ogetto realizzato con il contributo della Presidenza del Consiglio dei Ministri - Dipartimento per le Pari Opportunit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cubi notturni legati all’episodio della mutilazio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ura invasiva al ricordo dello stess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ticenza sull’argomento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La donna mutilata perde, almeno in parte, quel meccanismo compensatorio dell’accettazione sociale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Si sente “diversa” rispetto alle autocto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Momenti critici: visita ginecologica o part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116" name="Segnaposto contenuto 2" descr=""/>
          <p:cNvPicPr/>
          <p:nvPr/>
        </p:nvPicPr>
        <p:blipFill>
          <a:blip r:embed="rId1"/>
          <a:stretch/>
        </p:blipFill>
        <p:spPr>
          <a:xfrm>
            <a:off x="378000" y="878040"/>
            <a:ext cx="838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118" name="Segnaposto contenuto 2" descr=""/>
          <p:cNvPicPr/>
          <p:nvPr/>
        </p:nvPicPr>
        <p:blipFill>
          <a:blip r:embed="rId1"/>
          <a:stretch/>
        </p:blipFill>
        <p:spPr>
          <a:xfrm>
            <a:off x="378000" y="1023840"/>
            <a:ext cx="85467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120" name="Segnaposto contenuto 2" descr=""/>
          <p:cNvPicPr/>
          <p:nvPr/>
        </p:nvPicPr>
        <p:blipFill>
          <a:blip r:embed="rId1"/>
          <a:stretch/>
        </p:blipFill>
        <p:spPr>
          <a:xfrm>
            <a:off x="378000" y="1238400"/>
            <a:ext cx="862632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olo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1440" cy="1597320"/>
          </a:xfrm>
          <a:prstGeom prst="rect">
            <a:avLst/>
          </a:prstGeom>
          <a:ln w="0">
            <a:noFill/>
          </a:ln>
        </p:spPr>
      </p:pic>
      <p:pic>
        <p:nvPicPr>
          <p:cNvPr id="95" name="Sottotitolo 2" descr=""/>
          <p:cNvPicPr/>
          <p:nvPr/>
        </p:nvPicPr>
        <p:blipFill>
          <a:blip r:embed="rId2"/>
          <a:stretch/>
        </p:blipFill>
        <p:spPr>
          <a:xfrm>
            <a:off x="603360" y="2273400"/>
            <a:ext cx="8278560" cy="404172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3" descr="fiore2.jpg"/>
          <p:cNvPicPr/>
          <p:nvPr/>
        </p:nvPicPr>
        <p:blipFill>
          <a:blip r:embed="rId3"/>
          <a:stretch/>
        </p:blipFill>
        <p:spPr>
          <a:xfrm>
            <a:off x="684360" y="2708280"/>
            <a:ext cx="238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olo 1" descr=""/>
          <p:cNvPicPr/>
          <p:nvPr/>
        </p:nvPicPr>
        <p:blipFill>
          <a:blip r:embed="rId1"/>
          <a:stretch/>
        </p:blipFill>
        <p:spPr>
          <a:xfrm>
            <a:off x="463680" y="476280"/>
            <a:ext cx="8242200" cy="1547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Pratiche cruente sostanziate dalla cultura gruppale con la “valenza positiva” di fare recuperare la vera identità, cancellando la natura bisessuale, eliminando il segno del doppi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dentità cultur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dentità sessu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trollo della sessualit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edenza sull’igiene, estetica e salu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ligio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tivazione economic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olo 1" descr=""/>
          <p:cNvPicPr/>
          <p:nvPr/>
        </p:nvPicPr>
        <p:blipFill>
          <a:blip r:embed="rId1"/>
          <a:stretch/>
        </p:blipFill>
        <p:spPr>
          <a:xfrm>
            <a:off x="463680" y="401760"/>
            <a:ext cx="8242200" cy="155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causa di 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timento di pudore personale e soci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ura del giudizio esterno della comunità internazion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gnoranza (non conoscenza) dell’anatomia  femmini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blio e rimozio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Livello profondo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Livello superfici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abbi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siderio di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ur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senso socia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rro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4839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igidit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ravi difficoltà nei rapporti sessual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canza di orgasm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sturbi del comporta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lattie psicosomatich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pressi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cub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sicos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ti intensi di ans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rro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nso di umiliazione e di tra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88c"/>
                </a:solidFill>
                <a:latin typeface="Century Gothic"/>
              </a:rPr>
              <a:t>Disturbo acuto da stress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vviene nell’immediatezza del traum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88c"/>
                </a:solidFill>
                <a:latin typeface="Century Gothic"/>
              </a:rPr>
              <a:t>Disturbo post-traumatico da stress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 segni dello sofferenza persistono per mesi o anni dall’evento traumat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olo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401320" cy="1407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La persona ha vissuto, ha assistito o si è confrontata con un evento o con eventi che hanno implicato morte, o minaccia di morte, o gravi lesioni, o una minaccia, all’integrità fisica propria o di altri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entury Gothic"/>
              </a:rPr>
              <a:t>La risposta della persona comprenderà paura intensa, sentimenti di impotenza o di orrore (DSM – IV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1:36:00Z</dcterms:created>
  <dc:creator>Luca</dc:creator>
  <dc:description/>
  <dc:language>en-US</dc:language>
  <cp:lastModifiedBy>Provincia di Novara</cp:lastModifiedBy>
  <dcterms:modified xsi:type="dcterms:W3CDTF">2013-01-31T09:49:16Z</dcterms:modified>
  <cp:revision>30</cp:revision>
  <dc:subject/>
  <dc:title>Diapositiva 1</dc:title>
</cp:coreProperties>
</file>