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886200" y="104760"/>
            <a:ext cx="1257480" cy="581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24000" y="1550880"/>
            <a:ext cx="84960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 sicurezza nelle attività estra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empimenti normativi e oper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044720" y="2846520"/>
            <a:ext cx="712764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 cave in ambito di 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rischio di incidente ri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ngelo Robo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irigente Responsabile Area attività regionali per il rischio indust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e lo sviluppo economico compati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i ARPA Piem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989000"/>
            <a:ext cx="849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applica alle strutture di deposito dei rifiuti di estrazione di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ategoria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d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sclusione delle strutture che rientrano nell'ambito di applicazione del decreto legislativo 17 agosto 1999, n. 334 e s.m.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vede una serie di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dempimenti a carico del Titol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lle strutture di deposito dei rifiuti di estrazione di categoria A ed in particol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849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.Lgs. 30 maggio 2008, n. 117 - Attuazione della direttiva 2006/21/CE relativa alla gestione dei rifiuti delle industrie estrattive e che modifica la direttiva 2004/35/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4147920"/>
            <a:ext cx="8640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tali fini deve essere integrato il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documento di sicurezza e salu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edatto ex art.6, comma 1, del D. Lgs. 624/96 “Attuazione della direttiva 92/91/CEE relativa alla sicurezza e salute dei lavoratori nelle industrie estrattive per trivellazione e della direttiva 92/104/CEE relativa alla sicurezza e salute dei lavoratori nelle industrie estrattive a cielo aperto o sotterranee”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(allegato al piano di gestione dei rifiuti di estrazione, sezione del piano globale dell’attività estrattiva da presentare all’autorità competente per l’ottenimento dell’autorizzazione) e deve essere messo in atto un </a:t>
            </a: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Sistema di Gestione della Sicurezza in base agli elementi di cui alla parte I dell’allegato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284640"/>
            <a:ext cx="8498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2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zione dei rischi di incidenti rilevanti e adozione, a livello di progettazione, costruzione, funzionamento, manutenzione e chiusura, delle misure necessarie per prevenire tali incidenti e limitarne le conseguenze negative per la salute umana e l’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2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4130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rt. 6 Prevenzione di incidenti rilevanti e informazi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1700280"/>
            <a:ext cx="80643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llegato III (art. 6, c. 3) – Politica di prevenzione degli incidenti rilevanti e informazioni da comunicare al pub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arte Prima – Politica di Prevenzione degli incidenti rilevanti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uti del documento di politica ed elementi costituenti del Sistema di Gestione della Sicurezza analoghi a quanto previsto dal D.Lgs.334/99 e s.m.i. e D.M. 9 agosto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Politica di prevenzione degli incidenti rilevanti e il SGS dell’operatore devono ess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rzional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i rischi di incidenti rilevanti che la struttura di deposito dei rifiuti di estrazione pres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arte Seconda – Informazioni da comunicare al pubblico interessat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uti delle informazioni da fornire analoghi a quanto previsto dalla Scheda di informazione sui rischi di incidente rilevante per i cittadini ed i lavoratori di cui all’allegato V del D.Lgs.334/99 e s.m.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49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.Lgs. 30 maggio 2008, n. 117 - Attuazione della direttiva 2006/21/CE relativa alla gestione dei rifiuti delle industrie estrattive e che modifica la direttiva 2004/35/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llegato III, Parte Prima – Politica di Prevenzione degli incidenti rileva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1700280"/>
            <a:ext cx="79200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 fini dell’attuazione della Politica di prevenzione degli incidenti rilevanti e del SGS, è necessario tener conto dei seguenti eleme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litica di Prevenzione degli incidenti rilevanti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 includere tutti gli obiettivi e i principi generali di azione dell’operatore in merito al controllo dei rischi di incidenti rilev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l SGS deve includere la parte del sistema generale di gesti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rendente la struttura organizzativa, le funzioni, le prassi, le procedure, i processi e le risorse per determinare e applicare la politica di prevenzione degli incidenti rilevan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ell’ambito del SGS devono essere trattati i seguenti aspett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zazione e pers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zione e valutazione dei rischi rilev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lo ope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tione delle modif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anificazione delle emerg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aggio delle pres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t e anal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fronto tra contenuti SGS ex DLgs. 117/08 e D.Lgs. 334/99 e s.m.i. (DM 9/08/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7931160" cy="3508200"/>
        </p:xfrm>
        <a:graphic>
          <a:graphicData uri="http://schemas.openxmlformats.org/drawingml/2006/table">
            <a:tbl>
              <a:tblPr/>
              <a:tblGrid>
                <a:gridCol w="3394080"/>
                <a:gridCol w="45370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tenuti SGS ex DLgs. 117/08 (Allegato III Parte Prim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tenuti SGS ex D.Lgs. 334/99 e s.m.i. e DM 9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zazione e perso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zazione e personale (art.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zione e valutazione dei rischi rileva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zione e valutazione dei pericoli rilevanti (art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op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operativo (art. 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e delle modifi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e delle modifiche (art. 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ificazione delle emergen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ificazione di emergenza (art. 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ggio delle presta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delle prestazioni (art. 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 e anali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e revisione (art. 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onfronto dei contenuti SGS tra DLgs. 117/08, D.Lgs. 334/99 e s.m.i. (DM 9/08/2000) e D.Lgs. 81/2008 e s.m.i. (OHSAS 18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362800" cy="5121360"/>
        </p:xfrm>
        <a:graphic>
          <a:graphicData uri="http://schemas.openxmlformats.org/drawingml/2006/table">
            <a:tbl>
              <a:tblPr/>
              <a:tblGrid>
                <a:gridCol w="2459160"/>
                <a:gridCol w="2447640"/>
                <a:gridCol w="3456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tenuti SGS ex DLgs. 117/08 (Allegato III Parte Prim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tenuti SGS ex D.Lgs. 334/99 e s.m.i. e DM 9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ntenuti SGS ex </a:t>
                      </a:r>
                      <a:r>
                        <a:rPr b="1" lang="pt-BR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.Lgs. 81/2008 e s.m.i. (OHSAS 180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zazione e pers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zazione e pers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rt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1 Risorse, ruoli, responsabilità e autor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2 Competenze, formazione e consapevolez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3 Comunicazione, partecipazione e consul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zione e valutazione dei rischi rilev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zione e valutazione dei pericoli rilevanti (art. 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.1 Identificazione dei pericoli, valutazione dei rischi e determinazione delle azioni di cont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oper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oper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rt. 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4 Document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5 Controllo dei docum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6 Controllo oper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e delle modif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e delle modifiche (art. 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.1 Identificazione dei pericoli, valutazione dei rischi e determinazione delle azioni di contro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6 Controllo oper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ificazione delle emergen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nificazione di emergenza (art. 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.7 Preparazione e risposta alle emergen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aggio delle prest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delle prestazioni (art. 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.1 Misura e monitoraggio delle prest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.3 Indagine incidenti, non conformità, azioni correttive e preven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 e anali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o e revi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rt. 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.5 Audit int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Ries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tenuti SGS ex DLgs. 117/08 (Allegato III Parte Pr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341360"/>
            <a:ext cx="806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rganizzazione e person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uolo e responsabilit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personale coinvolto nella gestione dei principali rischi a tutti i livelli dell’organizz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zione delle esigenze di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rmazi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personale interessato e fornitura di tale form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involgimento dei dipendenti ed eventualmente degli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ppaltat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dividuazione e valutazione dei rischi rilevan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zione e applicazione di procedure che consentano di individuare sistematicamente i principali rischi connessi con le operazioni normali e anomale e valutazione dell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babilit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e si producano e della loro gravità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trollo operativ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zione e applicazione di procedure e istruzioni per i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unzionamento in condizioni di sicurez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mpresa l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utenzi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l’impianto, i processi, le apparecchiature e gli arresti temporane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stione delle modifi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zione e applicazione di procedure per pianificare le modifiche o la progettazione di nuove strutture di deposito dei rifiuti di estr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tenuti SGS ex DLgs. 117/08 (Allegato III Parte Pr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700280"/>
            <a:ext cx="806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ianificazione delle emergenz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zione e applicazione di procedure per individuare emergenze prevedibili attraverso un’analisi sistematica e per preparare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periment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rivedere i piani di emergenza per affrontare tali emergenz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nitoraggio delle prestazio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zione e applicazione di procedure per l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tazione continua 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spetto degli obiettiv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ssati dalla politica di prevenzione degli incidenti rilevanti e dal SGS dell’operatore, nonché i meccanismi di indagine e intervento correttivo in caso di mancato rispetto di tali obiettiv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procedure devono riguardare il sistema utilizzato dall’operatore per riferire su incidenti rilevanti o sfiorati, in particolare quelli che comportano un guasto delle misure di protezione, le indagini svolte in proposito e il seguito dato all’evento sulla base degli insegnamenti trat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dit e anali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ozione e applicazione di procedure per l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tazione periodica e sistematica della politica di prevenzione degli incidenti rilevanti e l’efficacia e adeguatezza del S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analisi documentata delle prestazioni della politica e del sistema di sicurezza, nonché aggiornamento da parte della dire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olitica di prevenzione degli incidenti rilev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8064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o il DM 9 agosto 2000 il documento di politica di prevenzione degli incidenti rilevanti deve ess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o per lo stabil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ttoscritto dal g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a Politica deve essere allegato il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gramma di attuazione e/o miglioramento del S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he contiene gli interventi impiantistici e gestionali per il miglioramento della sicurezza con l’indicazione delle tempistiche di attu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e programma deve essere mantenuto aggiornato (registrazione dello svolgimento delle attività programmate, motivazione della eventuale riprogrammazione, integrazione con attività non programm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lla definizione e riesame del documento di politica e nell’attuazione del SGS deve esser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involto il Rappresentante dei Lavoratori per la Sicurez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s. definizione e revisione di piani di formazione e addestramento, PEI, ecc.) s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documento di Politica deve esser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ffuso al person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s. illustrazione negli incontri di formazione/informaz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6021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Esempio di poli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ttività di formazione, informazione, addestramento (F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387440"/>
            <a:ext cx="806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o il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.M. 16 marzo 199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alità con le quali i fabbricanti per le attività industriali a rischio di incidente rilevante devono procedere all'informazione, all'addestramento e all'equipaggiamento di coloro che lavorano in si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 le attività di FIA devono essere gestite secondo una procedura nella quale siano defini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modalità di erog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estinatari (es. lavoratori dipendenti, lavoratori di ditte ter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contenuti (es. SGS, analisi di sicurezza, schede di sicurezza, esperienza operativa, P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periodicità degli incont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modalità di verifica dell’apprendimento (es. questiona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modalità e i contenuti della registrazione degli incontri (elenco dei partecipanti e relative firme, argomenti trattati, eventuali annotazioni, modalità di verifica dell’effica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attività di FIA devono essere programmate redigendo u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iano annu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ticolato sulla base dei precedenti criteri e mantenuto aggiornato (registrazione dello svolgimento delle attività programmate, motivazione della eventuale riprogrammazione, integrazione con attività non programm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attività di FIA devono essere svolte in conformità al piano e, in ogni caso, ai requisiti del D.M.16 marzo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iano di Emergenza Interno (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38744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condo l’allegato IV del D.Lgs. 334/99 e s.m.i. e il DM 9 agosto 2000 il PEI deve conten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individuazione dei ruoli, nominativi e compiti del Responsabile della gestione delle emergenze, dei componenti della squadra di emergenza, della squadra di primo soccorso, dell’incaricato dell’evacuazione, del responsabile delle comunicazioni all’esterno, e dei relativi sostit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identificazione dei livelli di emergenza (emergenza locale, emergenza generale, evacuazione, fine emergenza) e delle relative modalità di segnalazione dell’emerg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individuazione di scenari incidentali desunti dall’analisi di sicurezza e codificati mediante i suddetti liv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descrizione, per ogni scenario, delle azioni da intraprendere da parte del personale addetto all’emergenza e dei sistemi di emergenza (sistemi di contenimento, presidi antincendio, ec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descrizione del comportamento in emergenza per il restante pers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individuazione dei dispositivi di protezione individuali (DPI) e collettivi (tipologia e nume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appresentazione su planimetria dei punti critici dove possono svilupparsi gli scenari incidentali, dell’ubicazione delle attrezzature e impianti antincendio, dei pulsanti di emergenza, dei punti di raccolta e delle vie di fu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6021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Esempio di 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07920"/>
            <a:ext cx="7367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rettiva 2003/105/CE “ Seveso III” e D.Lgs. 23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modifiche introdotte tengono conto delle circostanze e delle modalità di accadimento di alcuni importanti incidenti industriali verificatisi in Europa, q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060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omania, Baia Mare (Gennaio 2000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edimento della diga del bacino di decantazione con consegu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versamento di cianuro e inquinamento del fiume Tibisco/Danu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355920"/>
            <a:ext cx="820908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fruttamento (esplorazione, estrazione e preparazione) di minerali in miniere, cave o mediante trivellazione,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con operazioni di preparazione chimica o termica e deposito ad esse relativo, che comportano l'impiego delle sostanze pericolose di cui all'allegato 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pianti operativi di smaltimento degli sterili, compresi i bacini e le dighe di raccolta degli sterili, contenenti le sostanze pericolose di cui all'allegato I e utilizzati in relazione alla lavorazione chimica e termica dei mine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9955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pliamento del campo di app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ercitazioni del Piano di Emergenza Interno (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387440"/>
            <a:ext cx="8064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.M. 16 marzo 199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evede che siano effettua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ercitazioni periodi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ive alla messa in atto del PEI, con riferimento anche all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ve di evacuazi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i esercitazioni devono contempl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imulazione degli scenari incidentali contemplati nell’analisi di sicure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utilizzo dei DPI a disposizione in funzione della tipologia di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i esercitazioni devono esser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gistr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pposito verbale che ripor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 scenario simu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nominativi degli operatori coinvolti nelle eserci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azioni messe in atto dagli operatori e tempi di interv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modalità di segnalazione di allarme (emergenza) e cessato allarme (cessata emergen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utilizzo dei DPI e dei sistemi di emergenza (sistemi di contenimento, presidi antincendio, ec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eventuali criticità riscontrate e azioni di miglio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700280"/>
            <a:ext cx="8785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rt. 6 Prevenzione di incidenti rilevanti e informazi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Ulterio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dempimenti a carico del Titol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lle strutture di deposito dei rifiuti di estrazione di categoria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836640"/>
            <a:ext cx="849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.Lgs. 30 maggio 2008, n. 117 - Attuazione della direttiva 2006/21/CE relativa alla gestione dei rifiuti delle industrie estrattive e che modifica la direttiva 2004/35/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20976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spone, previa consultazione del personale che lavora nello stabilimento, ivi compreso il personale di imprese subappaltatrici a lungo termine, il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iano di emergenza inter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. 7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enuti analoghi a quelli richiesti dall’All. IV del D.Lgs.334/99 e s.m.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2200" y="4005360"/>
            <a:ext cx="8353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1800" indent="-271800" algn="just">
              <a:lnSpc>
                <a:spcPct val="100000"/>
              </a:lnSpc>
              <a:spcBef>
                <a:spcPts val="3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nisce all’autorità competente, contestualmente alla presentazione della domanda di autorizzazione, le informazioni per la preparazione del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iano di Emergenza Ester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. 11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enuti analoghi a quelli richiesti dall’All. IV del D.Lgs.334/99 e s.m.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). Il Piano è comunicato al Prefetto competente per territorio che può disporre eventuali modifi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2200" y="5010120"/>
            <a:ext cx="83534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3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In caso di incidente rileva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adotta le misure previste dal piano di emergenza interno e comunica all'autorità competente le informazioni necessarie sull’incidente (circostanze, sostanze presenti, misure di emergenza adott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70828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2560" indent="-322560" algn="just">
              <a:lnSpc>
                <a:spcPct val="100000"/>
              </a:lnSpc>
              <a:spcBef>
                <a:spcPts val="3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 un responsabile per la sicurezza incaricato dell'attuazione e della sorveglianza periodica della politica di prevenzione degli incidenti rilevant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907920"/>
            <a:ext cx="7367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incipali problematiche ambientali legate all’attività estra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700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i sterili generati dall’estrazione di metalli non ferrosi possono contener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voli quantità di sostanze peric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se come i metalli pesanti o le sostanze chimiche che sono necessarie nel particolare processo utilizzate per separare il minerale utile dal resto. La disponibilità chimica dei metalli e dei composti metallici tende ad aumentare con l'estrazione e la successiva lavorazione dei minerali: da questo possono avere origine fenomeni di drenaggio acido o alcalin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0920" y="3500280"/>
            <a:ext cx="475164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I due bacini di decantazione, in un'epoca di poco antecedente al crollo. I bacini di Prestavel erano caratterizzati da pendenze eccezionali, che non trovano riscontroin alcuna altra opera del genere."/>
          <p:cNvPicPr/>
          <p:nvPr/>
        </p:nvPicPr>
        <p:blipFill>
          <a:blip r:embed="rId2"/>
          <a:stretch/>
        </p:blipFill>
        <p:spPr>
          <a:xfrm>
            <a:off x="324000" y="1125360"/>
            <a:ext cx="3456000" cy="239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240840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27640" y="1197000"/>
            <a:ext cx="338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Il crollo di un bacino di accumulo e decantazione, oltre alle conseguenze legate al flusso di materiale verso valle comporta conseguenze a medio lungo termine legate alla diffusione sul territorio di sostanze altamente inquinanti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4076640"/>
            <a:ext cx="3382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tava 1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Collasso dei bacini di decantazione dei fanghi della lavorazione della fluo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285 mo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1280" y="37162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I fanghi (100.000m3) ad altissimo contenuto di cianuro e metalli pesanti hanno compromesso l’ecostistema del Danubio e di altri 6 fiu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268280"/>
            <a:ext cx="3382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Baia Mare (Romania)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racimazione dei bacini di decantazione dei fanghi estrattivi della miniera aurifera di Au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14954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167000" cy="35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4000" y="1062000"/>
            <a:ext cx="4022640" cy="579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16360" y="5229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cuni recenti incidenti che hanno coinvolto attività estrattive 2004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2492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A causa della formazione di acido solforico,il crollo o il danneggiamento 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una struttura di deposito di rifiuti minerari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 può avere ripercussioni gravi e prolungate nel tempo sull’ambiente. Una volta avviato, il processo di formazione di acidi è estremamente difficile da arrest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Uno dei problemi più seri e diffusi,  legato ai rifiuti di estrazione è costituito dal drenaggio acido (DA). Si ha produzione di acidi quando materiali ricchi di solfuri contenuti nella roccia sterile e negli sterili sono esposti all’ossigeno e all’acqua e reagiscono con essi formando acidi solforici.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7680" y="2205000"/>
            <a:ext cx="871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Ambito di appl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estione dei rifiuti derivanti dalle attività di prospezione o di ricerca, di estrazione, di trattamento e di ammasso di risorse minerali e dallo sfruttamento delle cave, all'interno dell'area del cantiere o dei cantieri estrattivi come individuata e perimetrata nell'atto autorizzativo e nelle strutture di deposito [...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ali strutture comprendono una diga o un'altra struttura destinata a contenere, racchiudere, confinare i rifiuti di estrazione o svolgere altre funzioni per la struttura, inclusi, in particolare, i cumuli e i bacini di decantazione (art. 3, comma 1, lettera 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836640"/>
            <a:ext cx="8496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.Lgs. 30 maggio 2008, n. 117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ttuazione della direttiva 2006/21/CE relativa alla gestione dei rifiuti delle industrie estrattive e che modifica la direttiva 2004/35/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005360"/>
            <a:ext cx="871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rt. 4 Disposizioni generali [….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rt. 5 Piano di gestione dei rifiuti di est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operatore deve elaborare un piano di gestione dei rifiuti di estrazione per la riduzione al minimo, il trattamento, il recupero e lo smaltimento dei rifiuti stessi, che contiene, tra l’altro, la classificazione proposta per la struttura di deposito dei rifiuti di estrazione conformemente ai criteri previsti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all’allegato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836640"/>
            <a:ext cx="849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.Lgs. 30 maggio 2008, n. 117 - Attuazione della direttiva 2006/21/CE relativa alla gestione dei rifiuti delle industrie estrattive e che modifica la direttiva 2004/35/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773360"/>
            <a:ext cx="8712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llegato II (art. 5, c. 3 lettera c) - Criteri per la classificazione delle strutture di deposito dei rifiuti di est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struttura di deposito dei rifiuti di estrazione e' classificata ne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781360"/>
            <a:ext cx="8496000" cy="20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Categoria 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il guasto o cattivo funzionamento, quale il crollo di un cumulo o di una diga, potrebbe causare un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cidente rileva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lla base della valutazione dei rischi alla luce di fattori quali la dimensione presente o futura, l'ubicazione e l'impatto ambientale della struttura, opp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contiene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ifiuti di estrazione classificati come pericolos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i sensi del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decreto legislativo 4 aprile 2006, n. 15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 successive modificazion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tre un determinato lim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opp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) contiene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ostanze o preparati classificati come pericolosi ai sensi delle direttive 67/548/CEE o 1999/45/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tre un determinato lim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4:17:33Z</dcterms:created>
  <dc:creator>defarpa</dc:creator>
  <dc:description/>
  <dc:language>en-US</dc:language>
  <cp:lastModifiedBy> </cp:lastModifiedBy>
  <dcterms:modified xsi:type="dcterms:W3CDTF">2009-11-19T13:09:40Z</dcterms:modified>
  <cp:revision>155</cp:revision>
  <dc:subject/>
  <dc:title>Struttura Complessa SC03</dc:title>
</cp:coreProperties>
</file>